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FE1-3D5B-4BBD-928D-3B79140F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936-9EE8-4B74-B24B-AD776833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FDF-2582-4A26-8B2D-BDA3E7A9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E9A-946D-4636-B13A-A69CA841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810B-6257-4F9E-9060-36657341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0DC3-0DFB-4AFA-B12D-5D980B61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2CE3-9C41-4682-A47F-0CAC5DB6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B4E7-6A7C-4FE1-A5B5-4ACEFA69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558B-63B3-4B5F-9BDB-066CFE25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FFC0-D4BD-4F1A-8F7C-43DE978E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7552-40E2-4DB0-A8D5-A588FA99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FED-957A-4505-BBA7-72BC4962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403F-0B61-466D-B16F-085F060A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C49D-6F49-4013-AB4A-F2339A71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3AA0-A508-4909-8451-B424E27E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A5A5-930B-4C16-9F67-EDE76525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AC6A-E241-474A-875D-017EF87D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2B9-94D8-44AF-BE08-A2E92A30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A34B-826B-4993-B727-F0A3FFDE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B77-D9E6-43D3-9F85-7B83B576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54B-EA67-4ED8-B6CB-FDA8BEF4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DA7-1736-4974-8C8F-48914565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440-C792-4436-874E-F4CC58D9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520-8F48-4241-9A35-05AE5B2C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406F-11CF-4DC5-B93C-7EA9D3CF9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7DB0-4C57-4B34-B827-1BF9C7C82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nimals of Indi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: Ashley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og De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Picture 7" descr="hog deer 2"/>
          <p:cNvPicPr/>
          <p:nvPr/>
        </p:nvPicPr>
        <p:blipFill>
          <a:blip r:embed="rId1"/>
          <a:stretch/>
        </p:blipFill>
        <p:spPr>
          <a:xfrm>
            <a:off x="1295280" y="1600200"/>
            <a:ext cx="2514600" cy="1824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g deer live 20-30 yea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of the smallest deer in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g deer is named for the way it ru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g deer eats mainly gr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9" descr="Hog Deer"/>
          <p:cNvPicPr/>
          <p:nvPr/>
        </p:nvPicPr>
        <p:blipFill>
          <a:blip r:embed="rId2"/>
          <a:stretch/>
        </p:blipFill>
        <p:spPr>
          <a:xfrm>
            <a:off x="533520" y="3505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urt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body temperature changes with their surroun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 bloo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ody of a turtle is covered with special bony or cartilaginous shell, which is developed from its ri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12" descr="indian turtle"/>
          <p:cNvPicPr/>
          <p:nvPr/>
        </p:nvPicPr>
        <p:blipFill>
          <a:blip r:embed="rId1"/>
          <a:stretch/>
        </p:blipFill>
        <p:spPr>
          <a:xfrm>
            <a:off x="4419720" y="3803760"/>
            <a:ext cx="3386160" cy="261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indian turtles"/>
          <p:cNvPicPr/>
          <p:nvPr/>
        </p:nvPicPr>
        <p:blipFill>
          <a:blip r:embed="rId2"/>
          <a:stretch/>
        </p:blipFill>
        <p:spPr>
          <a:xfrm>
            <a:off x="6324480" y="1143000"/>
            <a:ext cx="2052720" cy="287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8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urce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animals.nationalgeographic.com/animals/mammals/indian-rhinocero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wildlife-tour-india.com/animals-in-india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iloveindia.com/wildlife/indian-reptiles/mugger-crocodiles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iloveindia.com/wildlife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5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5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dian Peafow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n peafowl are a species of birds in a group called pheasants. The males are called peacocks, and the females are called peahens. Together, they are peafowl. The Indian Peafowl is one of the largest birds that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9" descr="indian Peafowl 1"/>
          <p:cNvPicPr/>
          <p:nvPr/>
        </p:nvPicPr>
        <p:blipFill>
          <a:blip r:embed="rId1"/>
          <a:stretch/>
        </p:blipFill>
        <p:spPr>
          <a:xfrm>
            <a:off x="380880" y="3581280"/>
            <a:ext cx="4191120" cy="29307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8"/>
          <p:cNvSpPr/>
          <p:nvPr/>
        </p:nvSpPr>
        <p:spPr>
          <a:xfrm>
            <a:off x="81000" y="46080"/>
            <a:ext cx="1647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11" descr="indian peafowl 2"/>
          <p:cNvPicPr/>
          <p:nvPr/>
        </p:nvPicPr>
        <p:blipFill>
          <a:blip r:embed="rId2"/>
          <a:stretch/>
        </p:blipFill>
        <p:spPr>
          <a:xfrm>
            <a:off x="4800600" y="3581280"/>
            <a:ext cx="3962520" cy="296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ngal Tige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gal Tigers are also know as Indian Tig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live 8-10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igh 240-500l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gal Tigers are an endangered spec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ungry Bengal Tiger can eat as much as 60 pounds of me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7" descr="Bengal Tiger 2"/>
          <p:cNvPicPr/>
          <p:nvPr/>
        </p:nvPicPr>
        <p:blipFill>
          <a:blip r:embed="rId1"/>
          <a:stretch/>
        </p:blipFill>
        <p:spPr>
          <a:xfrm>
            <a:off x="5105520" y="1447920"/>
            <a:ext cx="2895480" cy="23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bengal tiger 1"/>
          <p:cNvPicPr/>
          <p:nvPr/>
        </p:nvPicPr>
        <p:blipFill>
          <a:blip r:embed="rId2"/>
          <a:stretch/>
        </p:blipFill>
        <p:spPr>
          <a:xfrm>
            <a:off x="5943600" y="3581280"/>
            <a:ext cx="281160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w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’s most important animal is the c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n people never ate cow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ws were thought to be sac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used the cows to help plow fields, and to get milk to drink and make yogurt w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cow"/>
          <p:cNvPicPr/>
          <p:nvPr/>
        </p:nvPicPr>
        <p:blipFill>
          <a:blip r:embed="rId1"/>
          <a:stretch/>
        </p:blipFill>
        <p:spPr>
          <a:xfrm>
            <a:off x="4572000" y="2286000"/>
            <a:ext cx="4343400" cy="30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dian Rhinocero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n Rhinoceroses live up to 40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igh about 4,400 lb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pite their size and weight they are nimble and can jump or change direction 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rhino"/>
          <p:cNvPicPr/>
          <p:nvPr/>
        </p:nvPicPr>
        <p:blipFill>
          <a:blip r:embed="rId1"/>
          <a:stretch/>
        </p:blipFill>
        <p:spPr>
          <a:xfrm>
            <a:off x="5105520" y="1905120"/>
            <a:ext cx="2859120" cy="4038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1" descr="indian_palm_squirrel9"/>
          <p:cNvPicPr/>
          <p:nvPr/>
        </p:nvPicPr>
        <p:blipFill>
          <a:blip r:embed="rId1"/>
          <a:stretch/>
        </p:blipFill>
        <p:spPr>
          <a:xfrm>
            <a:off x="685800" y="4038480"/>
            <a:ext cx="3048120" cy="240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Indian Palm Squirrel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7" descr="indian palm squirrel"/>
          <p:cNvPicPr/>
          <p:nvPr/>
        </p:nvPicPr>
        <p:blipFill>
          <a:blip r:embed="rId2"/>
          <a:stretch/>
        </p:blipFill>
        <p:spPr>
          <a:xfrm>
            <a:off x="2651040" y="2286000"/>
            <a:ext cx="1884600" cy="2514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n palm squirrels are only found naturally in parts of India and Sri Lank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live 2-4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don’t hiberna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n palm squirrels only grow to be about 15-20 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indian palm squirrel 2"/>
          <p:cNvPicPr/>
          <p:nvPr/>
        </p:nvPicPr>
        <p:blipFill>
          <a:blip r:embed="rId3"/>
          <a:stretch/>
        </p:blipFill>
        <p:spPr>
          <a:xfrm>
            <a:off x="457200" y="1295280"/>
            <a:ext cx="2743200" cy="23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opa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have broad paws and short 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rican leopards in hilly areas tend to be larger than those in lowla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opards are agile cli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live 21-23 years in captivity and only 7-9 in the w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3" descr="leopard-sleeping-in-tree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152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ANd9GcQ1km41DLJ4EM3Oq8HFM2-HkbtosstohsLEPSMrr4lDkWTISI5hS5bCyRI"/>
          <p:cNvPicPr/>
          <p:nvPr/>
        </p:nvPicPr>
        <p:blipFill>
          <a:blip r:embed="rId2"/>
          <a:stretch/>
        </p:blipFill>
        <p:spPr>
          <a:xfrm>
            <a:off x="6095880" y="1295280"/>
            <a:ext cx="20494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ugger Crocodi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ientifically know as Crocodylus palustr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male Mugger Crocodiles can lay as many as 25-30 eg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urvive on fish, other reptiles, and large and small mamm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indian-mugger"/>
          <p:cNvPicPr/>
          <p:nvPr/>
        </p:nvPicPr>
        <p:blipFill>
          <a:blip r:embed="rId1"/>
          <a:stretch/>
        </p:blipFill>
        <p:spPr>
          <a:xfrm>
            <a:off x="380880" y="1981080"/>
            <a:ext cx="42674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yth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of the most massively built snakes in Indi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weight varies from 70-129 lb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eating a huge meal Pythons can go days without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ound 4m lo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7" descr="python 2"/>
          <p:cNvPicPr/>
          <p:nvPr/>
        </p:nvPicPr>
        <p:blipFill>
          <a:blip r:embed="rId1"/>
          <a:stretch/>
        </p:blipFill>
        <p:spPr>
          <a:xfrm>
            <a:off x="5029200" y="137160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python"/>
          <p:cNvPicPr/>
          <p:nvPr/>
        </p:nvPicPr>
        <p:blipFill>
          <a:blip r:embed="rId2"/>
          <a:stretch/>
        </p:blipFill>
        <p:spPr>
          <a:xfrm>
            <a:off x="4495680" y="3738600"/>
            <a:ext cx="3953160" cy="2589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21:44:46Z</dcterms:created>
  <dc:creator> </dc:creator>
  <dc:description/>
  <dc:language>en-US</dc:language>
  <cp:lastModifiedBy>JSEAQUIS</cp:lastModifiedBy>
  <dcterms:modified xsi:type="dcterms:W3CDTF">2011-05-23T14:08:53Z</dcterms:modified>
  <cp:revision>4</cp:revision>
  <dc:subject/>
  <dc:title>Animals of  Asia</dc:title>
</cp:coreProperties>
</file>